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951-E401-45CC-A505-5AF2D0DA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949-5065-4CF0-B265-96E86561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6E6DF-2A7E-40AC-B1A2-925436BB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35A6-F9C2-4DA1-A68D-5BEC3561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5D80E-6F00-4858-A0D8-57C9757F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C643A-6F79-46ED-B736-7007A94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31D44-165D-4629-B26F-1BB1A9B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620EE-9B0B-409C-B919-92971F9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8D311-A837-4C63-902A-3E6BDAF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1B18E-1619-4F1E-9286-E0002FA7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3FAE6-E38F-4996-921D-D4F9E42A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4F5E8-0A82-4686-A4FC-5034CDC6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356-05A4-40A2-A70C-91DFBF81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FA199-A086-452D-8CC0-7BC5243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288B5-28BB-4AC9-8DC5-8A3491D2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F6211-FFB4-4C28-86BE-9448E87C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94D1F-4103-43E3-BB8F-152D1B3D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9DDD9-D50A-498A-BFCD-B0C995D0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9E3D8-DD9B-4813-B4AF-CBAEC02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329D3-A096-4C2D-8196-3B57966E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74368-955C-489E-BB20-26E4D78E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2F4FE-A8DC-40C3-B86F-358FFDBC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94D54-543D-4EE8-A457-AA15B091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9FB-92E1-40A8-BFC8-A52B71D4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19725-7C75-4E01-8B24-F9622339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1FCA3-E98A-4BAB-8EDE-E82337BD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C597C-CDCC-4DA9-BEA2-04A6DA36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E7A51-6822-4F47-975A-99B2DBE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B5557-E766-498B-B11F-CDE4D638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9E923-0F93-4628-BA71-78B6FB68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2171A-A8E0-4042-BA9D-E26BBA77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D26BC-F9D7-4789-877C-BE79ED7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71001-A4D7-45A8-BA72-FEF00FAF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03671-50C6-4FC2-A684-ECF5DACC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23CD-8602-43A5-96D3-4894D44D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ABD0B-EDEB-46F6-91BB-7063DF6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4482-5DDA-43F4-993D-47351888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92A18-E0C2-470A-A619-3BABC4C2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09512-3044-4FBF-91E7-51460AE2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E86C5-060F-42BC-B2F5-BDCF1ED0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467EE-463C-419A-B721-4A91487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1020E-53D2-4B47-BBE4-EBCDEC52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730C9-0E9B-4DED-8079-E6CBFEEB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42210-BBB4-4AB0-ACC4-363083A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D1B8F-201E-44D7-9D45-4E5A3FA6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6B54-CF5E-47A4-861D-F6CE158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0BCEC-2841-4990-AA49-DFCB619A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2729D-17C4-4843-8A8D-38BDF775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A1FE6-6BE4-478C-B4C6-3428A7AA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0D2A1-4B6F-4873-8AEC-3B0252F8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AE2EF-2B3B-4568-B7C6-D16C1BD2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BF31B-0386-4E55-A780-9577FBED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5C299-7B01-40C5-8D4B-89C40C5E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9B313-8FF1-446B-B730-DFBC3E00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967D0-D403-4BC5-A9BD-2FF45B5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86470-8A90-45B5-BD9B-6EEFDB2F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39FF-820D-4FD3-A779-2DB8C36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ED6B6-FDEB-4B98-AFEF-76897E68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D58F9-614D-4C38-A71C-26AF0915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7B8E9-5B49-4EC7-9F8C-F86C546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FD1AB-8AF6-4088-A883-4260E080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DC1B3-00EF-412E-8BB2-D70DBA52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E3B1EA-B269-4447-9178-FC0E2745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4466E-F011-4140-B876-0C5EC2E1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64093-490F-46C1-A203-82993058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01AC1-8D0C-4C28-A725-25B6B4F5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90A64-4509-4D25-8DE4-C21E6459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0A6-BAD9-4FDA-B5D3-D24E542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2F7F0-8AD8-4B86-A868-4DE2D5FB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EE2DE-C9C7-43F4-9FE5-F090A18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EAB49-84F9-4B30-B6A1-AD610FB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1022A-AC8C-4ED4-B803-F6C7FA7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1474C-6738-4236-95DD-3C4BFFB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AF965-83D8-484B-AE36-8E7242B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FD387-306D-4BA6-9DE2-24F61B63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6B420-0AF1-4226-94CD-3FB061C0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FF669-2AF0-4A49-A43A-51C84F22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4E8D3-E155-4CF4-86DA-5607B522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4812-1F63-4CB4-BDE1-54132401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8D1EA-0EE5-448F-95E1-362677E7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0DD42-30C0-4E4B-A002-D3261D14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8FED9-A5A5-4687-9ED4-C2D8E9BE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C66062-AFFA-48F3-8794-7E183053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3D701-42D1-41FA-8472-4409DED2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668B7-057A-4D93-AE5F-2D7980C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25A9D-0E06-443D-A7A2-DF71E79A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9709F-0959-49F5-B6BD-AAEBA6D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7E2AE-FEDF-4872-8FDB-22C8826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A500B-97E6-40E2-BCFB-4F46ED2E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9D2-C883-4F40-87F0-56E86B42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EDF41-C827-4391-8BAA-F4C991F5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7EEF3-8DE4-4411-A931-B99168AC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87F99-E631-4BC9-BA23-56D70B81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DFC1A-E15D-454A-9A4D-D52DEB7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C523C-07F8-45CC-AE6B-8CA95F74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3D4E4-D14E-4FE4-AA55-2F3EE197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4CD53-249A-4DE7-A49A-93A2AD27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56F34-F478-4931-9803-56DE4577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DF2A2-DD85-432F-85E0-409F466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CAECC-AE54-4E67-8394-3DE1B87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0C7-E417-471A-9CCD-75D7B3D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E17B0D-FF9A-47D4-9459-8BCD46AE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41C12-F18B-48A0-8465-5B2149F4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82710-76B0-4C38-B9DB-124EDABC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3687D-AD96-47A9-9521-626D8A3B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5B104E-6CD7-4F6D-B61C-4A055E6F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E09A48-FE92-4096-9DB2-830AB7F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903AD-B069-4961-9DBB-18F45A6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57283-4BDC-4729-A64E-8C38323B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E3F93-E7AE-478B-BA3E-E9B745EF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77EDE-DB04-4DFA-A3FD-F00D6A8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457-9238-4811-A6D5-E0212D73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A925-291B-44E6-875B-419DC63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B6BAB-9BE1-4724-8820-0B9D644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8095B-9985-425A-8BDA-994ABA7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A476B-8473-44A3-9A33-212A447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5B60F-E31F-4938-988A-2B4FA1BD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36F0D-28E6-4217-B127-E08E3B2B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A4B93B-7A69-418C-A359-23160DD2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A8D28-8DFD-4925-B364-48F4CF93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D40DE-39C4-4283-8A02-FE0588FF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C0C27-CCC5-47D2-A3F3-0D1A5F1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209D1-384E-4E23-A02A-3EC717A5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4287-58F0-4773-8DCD-9517BDEA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21CA2-1D77-4874-BAC1-A4EFEDC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B7DD7-3B5F-4591-8CAF-C50D74D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069B2-D93A-4C46-AEDE-BDD4EBC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5BC98-CD84-4233-8EF3-D14CFD96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FF7E9-B05B-4731-9D06-FB9E81ED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40237-FBCB-4C74-8C55-17763C80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49B32-A7EC-452D-BE9C-365D1452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A20F6-17FF-42FA-A1FD-F50FC88F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55B62-6D79-4CF9-A7CC-7A9F14EB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3A531F-3AA3-494E-A61D-8620586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637D-CF37-4A44-824C-28443864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FFA3F-0B48-469E-8210-34F76AAF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5EC95-3F4F-48BB-8414-131D6DA2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41FEB-9186-4696-8609-B267B40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C9D7A-0DB6-4A5A-8F15-129E6F2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11EFA-7CEB-4A01-90C2-563C6D1F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DEB4F-E95D-481E-8B3A-7537F21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0DBFF-686E-47DD-B0FC-1D55DD4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EF457-297E-4F1C-9868-30E56AFB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E7D3F-BF6A-4B0F-8D10-D4463483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04390-312A-483B-9BB3-BB5F8A7C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FB25-131E-4F70-B853-5395BAF1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96AFE-E2CC-4DD4-BF8C-52182CF3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B0911-F1E2-49EC-B600-EFA61792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8A15A-1D24-44F3-A48C-40019340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6C0F4-8735-485E-97CE-219540F7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38D3CE-FF67-4377-AB8C-8445B02F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32DE4-6498-4E61-B6B6-A3D03C62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7D730B-B0A4-405F-973C-DF7D543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FF837-6D1E-45A5-8E0A-5DA70FA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101F7-FD39-4B09-A420-19AFA919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8B692-3BFF-425D-9EB4-989792EE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A426-A6A9-4023-AAA0-1C2926C1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4D91A-DEE3-4BA9-8C02-990F8A16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25B72-D6A9-4B90-BD4E-F4F9A40B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A190D1-D106-467B-BD88-2097ED07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BF519C-6DF9-4889-B60A-3A416C9E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946EB-EF1D-4320-8AB8-E13F5E0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09072-1B9D-4E9D-B92A-5646403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2A95A-33C9-4EC5-AFC6-E793620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36C74-7DEF-4559-A054-F3A7ADE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93516-C76B-4E8C-A38F-C2EE70C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A394C5-BB3E-451A-A3CF-C4ED739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0679-7D30-4E4B-A6D3-0071EC05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25A32-1BEC-4813-ABA6-F9DD2DFF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2A5F3-E2D2-411C-8925-76313759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A0963-7A47-4903-86E5-9455C039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BB52-736D-4999-B07C-F36A59EB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FB5A-AFA0-4875-9FC7-010779A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B84C-641F-4447-9CD5-9A147338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52C6-65F1-4DC1-B090-B5262CFF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AD1-38F7-4396-A93C-CB81187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00B0-C9C6-4F22-8E53-4DB28FB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67A7-E573-41F7-8A0A-B5C2C36F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5CB0-D273-47E7-904B-5B192B7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1B12-131C-4F28-BF92-64D4B35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081F-CE76-45EB-AF4C-42E02F33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916B-C7DB-4D47-8618-0150B56C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4E95-681D-4260-96CF-B17C5C12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1DFC-EB1E-4F05-A5E8-B7C6932E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96E7-1225-42B3-9B9C-C22C1FE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AD381-592D-438C-82FD-22FE4B70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75E-E170-4C28-8C82-761EAB4D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B49D-0AB7-4B64-9BC3-20293ED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2327-A9EB-46C0-A0A3-B2328106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D767-5E1A-4D05-BEDC-2E5342D1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1EF2-FD87-4EC5-8660-CCBE3FF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9AED-0CD1-45E0-852C-ED7D031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36D6-935D-4E09-9BB3-21C3B8FA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DDC94-AD37-45D9-9FDD-5AC0509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E02D-035E-424A-8700-E25A68D4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F741-1DE9-463E-899D-B1BC13F9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869E0-79A1-4A45-A555-544C9680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FEC-3208-43DE-BF9C-F989B630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EC2D-53E3-47B6-878D-2334E8C9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CC40-F740-4DEB-8519-128C3391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21D8C-7C31-46AC-95C3-B20E73AB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81B2-9FE9-4F5F-9F17-70A54F68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56BD0-9502-488B-9338-B84A924D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7F183-3F38-4909-93BD-72CF0E0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62712-5672-4E8D-B39B-38C5BE5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6219-1F8C-423B-907A-D5807024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FB01-06BF-4904-B75A-D9E876AA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D9A4F-7277-4BF2-9806-92335B21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27B-23EC-49F8-9121-E54D0BC2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8316-E2D4-4988-952A-F3DA132D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E5461-48A3-4FD4-90C9-FDD524BF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0315-5A22-4C4D-B25A-225D16A3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BC7B0-AB1E-40FE-81F7-8AE20D3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0405-F6F2-4EAF-A216-47BA32BC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6A5F-890C-462C-80AE-53D0B13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6D59A-0F8A-4EDD-A03B-8FC548D8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D3E82-D655-42BE-B74F-B32A887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3A0EC-C71F-4470-BA89-7BAEA6B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073A-DD61-45F9-95F7-3F9DD00E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6CB-4ABC-47DE-B2DA-255FF6F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5B607-1907-4268-B3F1-F7A46A08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A543-A272-44D8-BE85-4CDF3DFA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7D78-C388-44AB-97A6-8B23BDBB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F5E5-4FE0-4FF4-A11F-FB4F85CB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C1E6-8145-4E78-AE59-6E52DF5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5A70-B8D5-407F-BA25-9B87DC5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E3DA-6136-49F8-8067-DFEA445C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7E09-55F8-44EB-B88B-93C2F3A2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65A40-BBC5-4CB8-A70A-F86F60D9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6A67B-85B8-46C1-A1FD-91A6464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476-4ED2-4051-A175-E2002F5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A5A4C-0703-4A29-8C07-F446C67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27F7-2CCD-4F51-9284-D47EC68D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AB5F-1C19-441B-B5F2-DAB97F5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E97D-5501-409E-887F-01405F80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393C-7BFA-4B2D-9A9A-9FA4F46F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DE5AE-ADA5-4ED5-A24D-98550999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9EDC7-E1D5-47CA-BEB8-E8D1BD5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DD91-633C-48F3-976A-2D810139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7E12-87AE-49D9-8CD9-5EA8569D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4C950-6CAF-42DF-8D85-1D84FEFA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3FC-5ABF-452D-BF62-2780677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8A5B6-C99C-463B-91D5-B1CD46CF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F8FD-FD17-4668-B8E6-91D5413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04C2E-C40D-4B2E-84A7-5E4D49F1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D6913-F485-4F0C-9DB0-B4A17DD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20853-B744-4175-BD35-2E6DA830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74C50-961C-4149-8F89-5D19427E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1C6B0-D915-4B14-8723-9C662BAD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95B0D-64B7-4ADE-B8B8-847C0E64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3C016-95F2-4FD0-90C2-FC893795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9212-BD7B-4C2A-8D4D-E044BFC5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5716-330D-4ACB-AB2D-34EF134DE9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918C-1070-41D8-AEA3-FCD93CC5F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492B-43D9-4D60-AF88-57AF2B0024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FA1C-CE31-4BC5-A8A1-4093E00441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EC3-E7AB-4B46-81B8-51D543D7EB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D98-6DFE-40F9-AFA9-E7C73E3869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6F0B-6BB5-432B-A31E-A31685B19D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01CC-5185-4683-95CA-2DD8E34DA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F95A-6CCA-4E5B-A36D-1D826C9A30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8C4-13FD-4229-A0FB-DE3AC23A1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3D8-080A-42C6-A2D8-29015F322F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DC91-C9E1-47C0-AADA-57D9916D34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1088-F632-4FD6-A729-CBCCA4C31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03F-4247-4C29-92BD-3521C263A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9185-7198-4D19-A6EF-4AC29DE72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A809-E2B1-44B5-84EC-66995C00A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9E23-109E-43BC-916D-C8D6C5B2F1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6E26-57AD-4656-893D-2B0197F63A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204-D391-459E-8B73-59097993F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33B5-35E1-4CDE-B82E-2B52D9474E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9702-E195-4DE5-A9D2-0EAAAC099B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DDC6-36E3-4E5D-B289-A60D8392DC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53FB-A938-4D78-9FEF-BFFEA34CE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EE07-F5B0-40F2-9D5A-28D6587C72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6630-B4A6-4041-A8B0-72B57C0CD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49C9-E3CA-4BAA-A60A-152E8C8355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AAB8-E54B-4863-AB8F-A2803FC5C8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BBA0-14CD-4352-9BBB-D9ACC74B67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FACA-7C21-475D-A746-418712A310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43B0-6047-4221-A5F3-E14D30EED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6919-006E-4216-B527-3C4A421D35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6C9A-A8C9-4D67-AB37-6104E5391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E318-A613-4FD2-B0AC-53EC4DC987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4FF4-584F-4401-A68F-2A8FF4BB58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6D2-A59C-49C9-B7A4-0210A8840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BD52-0D6B-420B-8284-B8FCCFFE4D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4828-9800-4DB6-A414-B5E033E44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281D-F17F-4C3E-8ECF-9196DF8BE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5183-5F01-42EB-899F-BBD341028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59AF-D8A4-44CB-8F72-0F7F37BC7F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8123040" cy="10126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3722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69633" descr=""/>
          <p:cNvPicPr/>
          <p:nvPr/>
        </p:nvPicPr>
        <p:blipFill>
          <a:blip r:embed="rId1"/>
          <a:stretch/>
        </p:blipFill>
        <p:spPr>
          <a:xfrm>
            <a:off x="250920" y="1420920"/>
            <a:ext cx="8582040" cy="4953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69634" descr=""/>
          <p:cNvPicPr/>
          <p:nvPr/>
        </p:nvPicPr>
        <p:blipFill>
          <a:blip r:embed="rId2"/>
          <a:stretch/>
        </p:blipFill>
        <p:spPr>
          <a:xfrm>
            <a:off x="824040" y="2019240"/>
            <a:ext cx="7953120" cy="2847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6573960" y="2017800"/>
            <a:ext cx="1079280" cy="423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835280" y="3832200"/>
            <a:ext cx="1079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8609" descr=""/>
          <p:cNvPicPr/>
          <p:nvPr/>
        </p:nvPicPr>
        <p:blipFill>
          <a:blip r:embed="rId1"/>
          <a:stretch/>
        </p:blipFill>
        <p:spPr>
          <a:xfrm>
            <a:off x="290520" y="1343160"/>
            <a:ext cx="8562960" cy="41716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6012000" y="3817800"/>
            <a:ext cx="1081080" cy="424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012000" y="4422600"/>
            <a:ext cx="10810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7585" descr=""/>
          <p:cNvPicPr/>
          <p:nvPr/>
        </p:nvPicPr>
        <p:blipFill>
          <a:blip r:embed="rId1"/>
          <a:stretch/>
        </p:blipFill>
        <p:spPr>
          <a:xfrm>
            <a:off x="285840" y="700200"/>
            <a:ext cx="8572320" cy="54576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6099120" y="1989000"/>
            <a:ext cx="488880" cy="4240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3894120" y="4610160"/>
            <a:ext cx="488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66561" descr=""/>
          <p:cNvPicPr/>
          <p:nvPr/>
        </p:nvPicPr>
        <p:blipFill>
          <a:blip r:embed="rId1"/>
          <a:stretch/>
        </p:blipFill>
        <p:spPr>
          <a:xfrm>
            <a:off x="252360" y="776160"/>
            <a:ext cx="8639280" cy="53056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755640" y="4422600"/>
            <a:ext cx="8209080" cy="424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4360" y="5013360"/>
            <a:ext cx="8208720" cy="42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611280" y="5589720"/>
            <a:ext cx="8208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65537" descr=""/>
          <p:cNvPicPr/>
          <p:nvPr/>
        </p:nvPicPr>
        <p:blipFill>
          <a:blip r:embed="rId1"/>
          <a:stretch/>
        </p:blipFill>
        <p:spPr>
          <a:xfrm>
            <a:off x="237960" y="790560"/>
            <a:ext cx="8668080" cy="55911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2"/>
          <a:stretch/>
        </p:blipFill>
        <p:spPr>
          <a:xfrm>
            <a:off x="3492360" y="2003400"/>
            <a:ext cx="1008360" cy="42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3"/>
          <a:stretch/>
        </p:blipFill>
        <p:spPr>
          <a:xfrm>
            <a:off x="3276720" y="2593800"/>
            <a:ext cx="100800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组合 60430"/>
          <p:cNvGrpSpPr/>
          <p:nvPr/>
        </p:nvGrpSpPr>
        <p:grpSpPr>
          <a:xfrm>
            <a:off x="209520" y="836640"/>
            <a:ext cx="8906040" cy="5400720"/>
            <a:chOff x="209520" y="836640"/>
            <a:chExt cx="8906040" cy="5400720"/>
          </a:xfrm>
        </p:grpSpPr>
        <p:pic>
          <p:nvPicPr>
            <p:cNvPr id="1025" name="图片 60428" descr=""/>
            <p:cNvPicPr/>
            <p:nvPr/>
          </p:nvPicPr>
          <p:blipFill>
            <a:blip r:embed="rId1"/>
            <a:stretch/>
          </p:blipFill>
          <p:spPr>
            <a:xfrm>
              <a:off x="209520" y="941400"/>
              <a:ext cx="8724960" cy="52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Picture 1" descr=""/>
            <p:cNvPicPr/>
            <p:nvPr/>
          </p:nvPicPr>
          <p:blipFill>
            <a:blip r:embed="rId2"/>
            <a:stretch/>
          </p:blipFill>
          <p:spPr>
            <a:xfrm>
              <a:off x="7496280" y="836640"/>
              <a:ext cx="161928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724360" y="2152800"/>
            <a:ext cx="1224000" cy="298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2916360" y="2556000"/>
            <a:ext cx="503280" cy="298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476360" y="2987640"/>
            <a:ext cx="503280" cy="298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7029360" y="2987640"/>
            <a:ext cx="503280" cy="298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4849920" y="3386160"/>
            <a:ext cx="649080" cy="2984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7524720" y="3376440"/>
            <a:ext cx="649440" cy="298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9"/>
          <a:stretch/>
        </p:blipFill>
        <p:spPr>
          <a:xfrm>
            <a:off x="4788000" y="4221000"/>
            <a:ext cx="1152360" cy="2984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0"/>
          <a:stretch/>
        </p:blipFill>
        <p:spPr>
          <a:xfrm>
            <a:off x="971640" y="4633920"/>
            <a:ext cx="649080" cy="2984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1"/>
          <a:stretch/>
        </p:blipFill>
        <p:spPr>
          <a:xfrm>
            <a:off x="3708360" y="5056200"/>
            <a:ext cx="649440" cy="2984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2"/>
          <a:stretch/>
        </p:blipFill>
        <p:spPr>
          <a:xfrm>
            <a:off x="5076720" y="5454720"/>
            <a:ext cx="649440" cy="2984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3"/>
          <a:stretch/>
        </p:blipFill>
        <p:spPr>
          <a:xfrm>
            <a:off x="684360" y="5877000"/>
            <a:ext cx="1150920" cy="2984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4"/>
          <a:stretch/>
        </p:blipFill>
        <p:spPr>
          <a:xfrm>
            <a:off x="6948360" y="5877000"/>
            <a:ext cx="122400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9410" descr=""/>
          <p:cNvPicPr/>
          <p:nvPr/>
        </p:nvPicPr>
        <p:blipFill>
          <a:blip r:embed="rId1"/>
          <a:stretch/>
        </p:blipFill>
        <p:spPr>
          <a:xfrm>
            <a:off x="185760" y="961920"/>
            <a:ext cx="8772480" cy="4934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6156360" y="2665440"/>
            <a:ext cx="344520" cy="2984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6084720" y="4738680"/>
            <a:ext cx="34452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8373" descr=""/>
          <p:cNvPicPr/>
          <p:nvPr/>
        </p:nvPicPr>
        <p:blipFill>
          <a:blip r:embed="rId1"/>
          <a:stretch/>
        </p:blipFill>
        <p:spPr>
          <a:xfrm>
            <a:off x="195120" y="741240"/>
            <a:ext cx="8753760" cy="5496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8388360" y="1657440"/>
            <a:ext cx="344520" cy="2984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8388360" y="2492280"/>
            <a:ext cx="344520" cy="298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6300720" y="3730680"/>
            <a:ext cx="344520" cy="2984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6372360" y="4135320"/>
            <a:ext cx="720720" cy="2984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8359920" y="5459400"/>
            <a:ext cx="34452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7352" descr=""/>
          <p:cNvPicPr/>
          <p:nvPr/>
        </p:nvPicPr>
        <p:blipFill>
          <a:blip r:embed="rId1"/>
          <a:stretch/>
        </p:blipFill>
        <p:spPr>
          <a:xfrm>
            <a:off x="268200" y="189000"/>
            <a:ext cx="8696520" cy="6200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101080" y="1384200"/>
            <a:ext cx="488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6324" descr=""/>
          <p:cNvPicPr/>
          <p:nvPr/>
        </p:nvPicPr>
        <p:blipFill>
          <a:blip r:embed="rId1"/>
          <a:stretch/>
        </p:blipFill>
        <p:spPr>
          <a:xfrm>
            <a:off x="266760" y="795240"/>
            <a:ext cx="8610480" cy="52675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101080" y="1492200"/>
            <a:ext cx="488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55300" descr=""/>
          <p:cNvPicPr/>
          <p:nvPr/>
        </p:nvPicPr>
        <p:blipFill>
          <a:blip r:embed="rId1"/>
          <a:stretch/>
        </p:blipFill>
        <p:spPr>
          <a:xfrm>
            <a:off x="290520" y="1376280"/>
            <a:ext cx="8562960" cy="41054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8101080" y="1384200"/>
            <a:ext cx="488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54276" descr=""/>
          <p:cNvPicPr/>
          <p:nvPr/>
        </p:nvPicPr>
        <p:blipFill>
          <a:blip r:embed="rId1"/>
          <a:stretch/>
        </p:blipFill>
        <p:spPr>
          <a:xfrm>
            <a:off x="290520" y="1390680"/>
            <a:ext cx="8562960" cy="4076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8028000" y="2651040"/>
            <a:ext cx="488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52231" descr=""/>
          <p:cNvPicPr/>
          <p:nvPr/>
        </p:nvPicPr>
        <p:blipFill>
          <a:blip r:embed="rId1"/>
          <a:stretch/>
        </p:blipFill>
        <p:spPr>
          <a:xfrm>
            <a:off x="276120" y="1638360"/>
            <a:ext cx="8591760" cy="3581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1223640" cy="424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5867280" y="4091040"/>
            <a:ext cx="12240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1:4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